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CBD2-1AF4-400D-B56D-FE5D0A959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1A69-6F7A-475E-A24F-2C6BBD38B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718-EA69-4F53-AB69-4780EC4F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5E2-924D-41F1-97E4-8FBC927E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7D4-F00B-49AB-8274-A8EDFE26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35F-1E71-449F-91EF-9D4A8B08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E1F-0F18-4570-9EBB-C2586226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B0D-E7D4-4550-A8F3-591CB5A3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20E-6EC8-4896-B43F-79E2120B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FB3-B8EB-44C0-9820-81E4379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5BA-017F-4598-A65A-0DB04D06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C46-5085-43E6-84E3-32F944D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4C3-C089-4A1E-8B5F-E53B6EB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A70-BFA4-44D7-8551-0B2DB00A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8634-1EF3-4143-BA43-A2FDF35A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 pues clar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7:44Z</dcterms:modified>
  <cp:revision>105</cp:revision>
  <dc:subject/>
  <dc:title>Profile</dc:title>
</cp:coreProperties>
</file>